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0" y="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278240" y="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1"/>
          </p:nvPr>
        </p:nvSpPr>
        <p:spPr>
          <a:xfrm>
            <a:off x="427788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6379A-43C2-480E-BC5C-0392BE72193A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455E3-C805-4C64-8EEB-0AB174C14800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9F126-CB3A-49D9-A769-C52F31F6A33F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5905E-F19A-48EE-A120-65AF10FAC981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322EA-1C04-4F80-99FA-09D2FEAF9C63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90263-7F9E-4A3F-88AA-BFC5C141C4B2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D93DB-0B9E-4A54-B59C-A21C01673127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79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23286-8168-4F4A-B8C2-D341F2FEE5F5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CD30A-A6CB-4668-98CF-13BE901E43AC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27705-EB37-4C38-8DB6-05E99FC7B404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184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D9F37-EE1F-440D-95E7-74C944F51879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4F91A-E041-4335-8AD0-A9426125051F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FB2F5-C25E-422C-9A9E-E871FFCC20B3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189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6011B-23D5-4203-B3D1-2E15E8A180AB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2FCB0-781F-45A1-9387-8C3FEA778FF0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DA195-108E-48A8-9B14-D6702412B2F9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149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3E5D0-F2B2-4B82-BAF6-00F96306E1F1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B1A32-4A04-4B82-B199-CD3107C3A7FF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B2740-420B-41A5-9E59-FC4DAB7E9B0E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54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69FFE-00BD-4230-B5B7-DDAA150051CD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14AA1-71A7-431C-B76C-6ECA6394BD8B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43812-3809-4B8B-86D0-F436AEB2BC6F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59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5935F-6068-471E-8066-386D29E1FCD2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F56AE-32CA-4800-BD3E-8AE735F83961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41F51-5E00-421C-994F-A49861279532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164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552A8-1943-416B-9AF4-06956C227262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955B8-BA74-47F0-BE00-BA7485635E52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66C85-A2E5-4180-A7EF-0A3F70368AC1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169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64102-7729-4AFD-8735-19FB26A8B2B0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E67DA-D51E-44CD-85C2-2D8C28B68079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47013-2F63-4A1D-A1AE-C557F0741744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174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90630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88720" y="3062160"/>
            <a:ext cx="90630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720" y="129492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88720" y="306216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32720" y="306216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291816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3040" y="1294920"/>
            <a:ext cx="291816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17720" y="1294920"/>
            <a:ext cx="291816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88720" y="3062160"/>
            <a:ext cx="291816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3040" y="3062160"/>
            <a:ext cx="291816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17720" y="3062160"/>
            <a:ext cx="291816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88720" y="1294920"/>
            <a:ext cx="90630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90630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44226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2720" y="1294920"/>
            <a:ext cx="44226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88720" y="298080"/>
            <a:ext cx="90630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32720" y="1294920"/>
            <a:ext cx="44226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88720" y="306216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88720" y="1294920"/>
            <a:ext cx="90630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44226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32720" y="129492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32720" y="306216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32720" y="129492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8720" y="3062160"/>
            <a:ext cx="90630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90630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88720" y="3062160"/>
            <a:ext cx="90630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32720" y="129492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88720" y="306216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32720" y="306216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291816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53040" y="1294920"/>
            <a:ext cx="291816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17720" y="1294920"/>
            <a:ext cx="291816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288720" y="3062160"/>
            <a:ext cx="291816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53040" y="3062160"/>
            <a:ext cx="291816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17720" y="3062160"/>
            <a:ext cx="291816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90630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44226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32720" y="1294920"/>
            <a:ext cx="44226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88720" y="298080"/>
            <a:ext cx="90630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32720" y="1294920"/>
            <a:ext cx="44226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88720" y="306216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44226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2720" y="129492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32720" y="306216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720" y="129492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88720" y="3062160"/>
            <a:ext cx="90630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8720" y="298440"/>
            <a:ext cx="90630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6960"/>
            <a:ext cx="906444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7000"/>
          </a:bodyPr>
          <a:p>
            <a:pPr marL="2984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lis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288720" y="1294920"/>
            <a:ext cx="90630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lvl="1" marL="270720" indent="-270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lvl="2" marL="270720" indent="-270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lvl="3" marL="270720" indent="-270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lvl="4" marL="270720" indent="-270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lvl="5" marL="270720" indent="-270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lvl="6" marL="270720" indent="-270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kbvg@kbvg.nl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4680" y="0"/>
            <a:ext cx="10074240" cy="56689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"/>
          <p:cNvSpPr/>
          <p:nvPr/>
        </p:nvSpPr>
        <p:spPr>
          <a:xfrm>
            <a:off x="3959280" y="585720"/>
            <a:ext cx="5398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kstvak 4"/>
          <p:cNvSpPr/>
          <p:nvPr/>
        </p:nvSpPr>
        <p:spPr>
          <a:xfrm>
            <a:off x="4319640" y="1058760"/>
            <a:ext cx="512748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Wet vereenvoudiging beslagvrije vo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(online cursu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56689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"/>
          <p:cNvSpPr/>
          <p:nvPr/>
        </p:nvSpPr>
        <p:spPr>
          <a:xfrm>
            <a:off x="289080" y="298440"/>
            <a:ext cx="9070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89080" y="1563840"/>
            <a:ext cx="907092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28760" indent="-3175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r>
              <a:rPr b="1" lang="nl-NL" sz="3600" spc="-1" strike="noStrike">
                <a:solidFill>
                  <a:srgbClr val="000000"/>
                </a:solidFill>
                <a:latin typeface="Bliss"/>
              </a:rPr>
              <a:t>Vraag 3: wat is “VBR”?</a:t>
            </a: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88720" y="1294920"/>
            <a:ext cx="878364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301680" indent="-3016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Bliss"/>
            </a:endParaRPr>
          </a:p>
          <a:p>
            <a:pPr marL="301680" indent="-3016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a.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Dat is het digitale netwerk van de Belastingdienst.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marL="301680" indent="-3016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b.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Dat is een verbreding van het Digitale beslagregister van de gerechtsdeurwaarders met overheidspartijen.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marL="301680" indent="-3016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c.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Dat is de Variable Bit Rate, de gebruikte techniek bij het encoderen van de rekenmodule.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marL="301680" indent="-3016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56674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"/>
          <p:cNvSpPr/>
          <p:nvPr/>
        </p:nvSpPr>
        <p:spPr>
          <a:xfrm>
            <a:off x="289080" y="298440"/>
            <a:ext cx="9070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89080" y="1398600"/>
            <a:ext cx="907092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25520" indent="-32076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Symbol" charset="2"/>
              <a:buChar char="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Bliss"/>
              </a:rPr>
              <a:t>Ik wil PE-punten. Wat moet ik doen?</a:t>
            </a: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88720" y="1294920"/>
            <a:ext cx="90630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marL="242280" indent="-2422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Bliss"/>
              </a:rPr>
              <a:t>Stuur een email naar </a:t>
            </a:r>
            <a:r>
              <a:rPr b="0" lang="nl-NL" sz="2800" spc="-1" strike="noStrike" u="sng">
                <a:solidFill>
                  <a:srgbClr val="ccccff"/>
                </a:solidFill>
                <a:uFillTx/>
                <a:latin typeface="Bliss"/>
                <a:hlinkClick r:id="rId2"/>
              </a:rPr>
              <a:t>kbvg@kbvg.nl</a:t>
            </a:r>
            <a:endParaRPr b="0" lang="en-US" sz="2800" spc="-1" strike="noStrike">
              <a:solidFill>
                <a:srgbClr val="000000"/>
              </a:solidFill>
              <a:latin typeface="Bliss"/>
            </a:endParaRPr>
          </a:p>
          <a:p>
            <a:pPr marL="242280" indent="-2422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Bliss"/>
              </a:rPr>
              <a:t>In de onderwerpregel: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Bliss"/>
              </a:rPr>
              <a:t>Antwoorden PE-vragen VBVV</a:t>
            </a:r>
            <a:endParaRPr b="0" lang="en-US" sz="2800" spc="-1" strike="noStrike">
              <a:solidFill>
                <a:srgbClr val="000000"/>
              </a:solidFill>
              <a:latin typeface="Bliss"/>
            </a:endParaRPr>
          </a:p>
          <a:p>
            <a:pPr marL="242280" indent="-2422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Bliss"/>
              </a:rPr>
              <a:t>In de mail: </a:t>
            </a:r>
            <a:endParaRPr b="0" lang="en-US" sz="2800" spc="-1" strike="noStrike">
              <a:solidFill>
                <a:srgbClr val="000000"/>
              </a:solidFill>
              <a:latin typeface="Bliss"/>
            </a:endParaRPr>
          </a:p>
          <a:p>
            <a:pPr lvl="1" marL="453960" indent="-24228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Bliss"/>
              </a:rPr>
              <a:t>voor- en achternaam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Bliss"/>
              </a:rPr>
              <a:t>voluit</a:t>
            </a:r>
            <a:endParaRPr b="0" lang="en-US" sz="2800" spc="-1" strike="noStrike">
              <a:solidFill>
                <a:srgbClr val="000000"/>
              </a:solidFill>
              <a:latin typeface="Bliss"/>
            </a:endParaRPr>
          </a:p>
          <a:p>
            <a:pPr lvl="1" marL="453960" indent="-24228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Bliss"/>
              </a:rPr>
              <a:t>KBvG-lidnummer</a:t>
            </a:r>
            <a:endParaRPr b="0" lang="en-US" sz="2800" spc="-1" strike="noStrike">
              <a:solidFill>
                <a:srgbClr val="000000"/>
              </a:solidFill>
              <a:latin typeface="Bliss"/>
            </a:endParaRPr>
          </a:p>
          <a:p>
            <a:pPr lvl="1" marL="453960" indent="-24228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Bliss"/>
              </a:rPr>
              <a:t>Antwoorden MC-vragen, bv: 1a, 2b, 3c</a:t>
            </a:r>
            <a:endParaRPr b="0" lang="en-US" sz="2800" spc="-1" strike="noStrike">
              <a:solidFill>
                <a:srgbClr val="000000"/>
              </a:solidFill>
              <a:latin typeface="Bliss"/>
            </a:endParaRPr>
          </a:p>
          <a:p>
            <a:pPr lvl="1" marL="453960" indent="-24228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Bliss"/>
            </a:endParaRPr>
          </a:p>
          <a:p>
            <a:pPr lvl="1" marL="453960" indent="-24228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Bliss"/>
            </a:endParaRPr>
          </a:p>
          <a:p>
            <a:pPr lvl="1" marL="453960" indent="-24228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Bliss"/>
            </a:endParaRPr>
          </a:p>
          <a:p>
            <a:pPr lvl="1" marL="453960" indent="-242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Bliss"/>
            </a:endParaRPr>
          </a:p>
          <a:p>
            <a:pPr marL="242280" indent="-242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Afbeelding 2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707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"/>
          <p:cNvSpPr/>
          <p:nvPr/>
        </p:nvSpPr>
        <p:spPr>
          <a:xfrm>
            <a:off x="5543640" y="2592360"/>
            <a:ext cx="4174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Bliss"/>
              </a:rPr>
              <a:t>Dank voor uw aandacht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56674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289080" y="298440"/>
            <a:ext cx="9070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89080" y="1398600"/>
            <a:ext cx="907092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25520" indent="-32076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Symbol" charset="2"/>
              <a:buChar char="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8720" y="298440"/>
            <a:ext cx="90630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unten vooraf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02920" y="1326960"/>
            <a:ext cx="906444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ScalaSans Regular"/>
              </a:rPr>
              <a:t>Q&amp;A voor v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ScalaSans Regular"/>
              </a:rPr>
              <a:t>Cursus achteraf beschikbaar via You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ScalaSans Regular"/>
              </a:rPr>
              <a:t>Link wordt gedeeld met de l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ScalaSans Regular"/>
              </a:rPr>
              <a:t>PE-punten worden toegekend op basis van beantwoording MC-vragen na aflo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ScalaSans Regular"/>
              </a:rPr>
              <a:t>Drie vragen met elk drie antwoordkeu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ScalaSans Regular"/>
              </a:rPr>
              <a:t>Antwoorden opsturen naar </a:t>
            </a:r>
            <a:r>
              <a:rPr b="0" lang="nl-NL" sz="2800" spc="-1" strike="noStrike" u="sng">
                <a:solidFill>
                  <a:srgbClr val="0070c0"/>
                </a:solidFill>
                <a:uFillTx/>
                <a:latin typeface="ScalaSans Regular"/>
              </a:rPr>
              <a:t>kbvg@kbvg.n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Afbeelding 2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707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289080" y="298440"/>
            <a:ext cx="9070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89080" y="1398600"/>
            <a:ext cx="907092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4784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0000" y="928440"/>
            <a:ext cx="755964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Bliss"/>
              </a:rPr>
              <a:t>Vragen?</a:t>
            </a:r>
            <a:endParaRPr b="0" lang="en-US" sz="9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60000" y="2977920"/>
            <a:ext cx="755964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24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4680" y="0"/>
            <a:ext cx="10074240" cy="56689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3959280" y="585720"/>
            <a:ext cx="5398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kstvak 4"/>
          <p:cNvSpPr/>
          <p:nvPr/>
        </p:nvSpPr>
        <p:spPr>
          <a:xfrm>
            <a:off x="4319640" y="1058760"/>
            <a:ext cx="512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Wet vereenvoudiging beslagvrije vo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56689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289080" y="298440"/>
            <a:ext cx="9070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289080" y="1563840"/>
            <a:ext cx="907092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28760" indent="-3175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0000" y="928440"/>
            <a:ext cx="755964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Bliss"/>
              </a:rPr>
              <a:t>Vragen?</a:t>
            </a:r>
            <a:endParaRPr b="0" lang="en-US" sz="9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60000" y="2977920"/>
            <a:ext cx="755964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24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56674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289080" y="298440"/>
            <a:ext cx="9070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89080" y="1398600"/>
            <a:ext cx="907092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25520" indent="-32076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Symbol" charset="2"/>
              <a:buChar char="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7240" y="1414080"/>
            <a:ext cx="869472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Bliss"/>
              </a:rPr>
              <a:t>Multiple choice-vragen</a:t>
            </a:r>
            <a:br>
              <a:rPr sz="6000"/>
            </a:br>
            <a:r>
              <a:rPr b="0" lang="nl-NL" sz="6000" spc="-1" strike="noStrike">
                <a:solidFill>
                  <a:srgbClr val="000000"/>
                </a:solidFill>
                <a:latin typeface="Bliss"/>
              </a:rPr>
              <a:t>Wet vereenvoudiging</a:t>
            </a:r>
            <a:br>
              <a:rPr sz="6000"/>
            </a:br>
            <a:r>
              <a:rPr b="0" lang="nl-NL" sz="6000" spc="-1" strike="noStrike">
                <a:solidFill>
                  <a:srgbClr val="000000"/>
                </a:solidFill>
                <a:latin typeface="Bliss"/>
              </a:rPr>
              <a:t>beslagvrije voet</a:t>
            </a:r>
            <a:endParaRPr b="0" lang="en-US" sz="60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7240" y="3793680"/>
            <a:ext cx="869472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24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56689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"/>
          <p:cNvSpPr/>
          <p:nvPr/>
        </p:nvSpPr>
        <p:spPr>
          <a:xfrm>
            <a:off x="289080" y="298440"/>
            <a:ext cx="9070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89080" y="1398600"/>
            <a:ext cx="907092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25520" indent="-32076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Symbol" charset="2"/>
              <a:buChar char="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7240" y="1414080"/>
            <a:ext cx="869472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Bliss"/>
              </a:rPr>
              <a:t>Houdt u pen en papier bij de hand!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7240" y="3793680"/>
            <a:ext cx="869472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24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56674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289080" y="298440"/>
            <a:ext cx="9070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89080" y="1398600"/>
            <a:ext cx="907092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4784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Bliss"/>
              </a:rPr>
              <a:t>Vraag 1: wat was de aanleiding voor de nieuwe beslagvrije voet?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88720" y="1294920"/>
            <a:ext cx="813564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305280" indent="-305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marL="305280" indent="-305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a.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De samenloop van beslagen en verrekeningen is onwenselijk.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marL="305280" indent="-305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b.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Er is nu vaak te weinig informatie om de beslagvrije voet goed te kunnen vaststellen.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marL="305280" indent="-305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c.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Door de coronacrisis is de belangstelling voor de schuldenproblematiek toegenomen.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marL="305280" indent="-305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Afbeelding 2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707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289080" y="298440"/>
            <a:ext cx="9070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89080" y="1398600"/>
            <a:ext cx="907092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4784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nl-NL" sz="3200" spc="-1" strike="noStrike">
                <a:solidFill>
                  <a:srgbClr val="000000"/>
                </a:solidFill>
                <a:latin typeface="Calibri"/>
                <a:ea typeface="Calibri"/>
              </a:rPr>
              <a:t>Vraag 2: wat of wie is de coördinerende deurwaarder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88720" y="1294920"/>
            <a:ext cx="863892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-3189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Bliss"/>
            </a:endParaRPr>
          </a:p>
          <a:p>
            <a:pPr marL="318960" indent="-3189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a.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Dat is een functionaliteit van de nieuwe rekenmodule.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marL="318960" indent="-3189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b.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Dat is de beslaglegger met een preferente vordering.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marL="318960" indent="-3189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c.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Dat is de beslaglegger die int, verdeelt, en aanspreekpunt is voor schuldenaar en derde.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marL="318960" indent="-3189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stin van Elst</dc:creator>
  <dc:description/>
  <dc:language>en-US</dc:language>
  <cp:lastModifiedBy>Masha Ilse Cazemier</cp:lastModifiedBy>
  <dcterms:modified xsi:type="dcterms:W3CDTF">2020-11-12T13:03:22Z</dcterms:modified>
  <cp:revision>68</cp:revision>
  <dc:subject/>
  <dc:title>PowerPoint-presentatie</dc:title>
</cp:coreProperties>
</file>